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89FA-560B-49C8-ADBF-21EF382C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4ACD-49FB-4DAA-8FE2-C4A755E7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6F87-83C5-4965-B6D7-1031046A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D458-1FB2-40A5-828B-F3755D73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01E3-EEB7-4767-8A22-34EBE11A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FF50-54E5-4705-8332-3CCE93A5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BA3-51C1-4532-869B-F987DD89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3A6-E01E-4544-AEB3-90E54482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78E-22F0-4102-955C-7AAF66C7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62A3-C95B-41D8-B44F-44757F04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C24B-BAA8-4324-B697-80AB9965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D42-941E-41BF-A15D-244D6337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9F16-C302-48D0-ABF9-4FEF09C92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On Branc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ffff"/>
                </a:solidFill>
                <a:latin typeface="Edwardian Script ITC"/>
              </a:rPr>
              <a:t>Under The Wings of Go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alifornian FB"/>
              </a:rPr>
              <a:t>As an eagle stirs up its ne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alifornian FB"/>
              </a:rPr>
              <a:t>Hovers over its you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alifornian FB"/>
              </a:rPr>
              <a:t>Spreading out its wing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alifornian FB"/>
              </a:rPr>
              <a:t>Taking them  up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alifornian FB"/>
              </a:rPr>
              <a:t>Carrying them</a:t>
            </a:r>
            <a:r>
              <a:rPr b="1" i="1" lang="en-US" sz="3600" spc="-1" strike="noStrike">
                <a:solidFill>
                  <a:srgbClr val="66ffff"/>
                </a:solidFill>
                <a:latin typeface="Californian FB"/>
              </a:rPr>
              <a:t> </a:t>
            </a:r>
            <a:r>
              <a:rPr b="1" lang="en-US" sz="3600" spc="-1" strike="noStrike">
                <a:solidFill>
                  <a:srgbClr val="66ffff"/>
                </a:solidFill>
                <a:latin typeface="Californian FB"/>
              </a:rPr>
              <a:t>on its wing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alifornian FB"/>
              </a:rPr>
              <a:t>So the Lord alone led hi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alifornian FB"/>
              </a:rPr>
              <a:t>And there was </a:t>
            </a:r>
            <a:r>
              <a:rPr b="1" i="1" lang="en-US" sz="3600" spc="-1" strike="noStrike">
                <a:solidFill>
                  <a:srgbClr val="66ffff"/>
                </a:solidFill>
                <a:latin typeface="Californian FB"/>
              </a:rPr>
              <a:t> </a:t>
            </a:r>
            <a:r>
              <a:rPr b="1" lang="en-US" sz="3600" spc="-1" strike="noStrike">
                <a:solidFill>
                  <a:srgbClr val="66ffff"/>
                </a:solidFill>
                <a:latin typeface="Californian FB"/>
              </a:rPr>
              <a:t>no foreign god with him</a:t>
            </a:r>
            <a:r>
              <a:rPr b="1" lang="en-US" sz="2800" spc="-1" strike="noStrike">
                <a:solidFill>
                  <a:srgbClr val="66ffff"/>
                </a:solidFill>
                <a:latin typeface="Californian FB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ff"/>
                </a:solidFill>
                <a:latin typeface="Californian FB"/>
              </a:rPr>
              <a:t>                  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66ffff"/>
                </a:solidFill>
                <a:latin typeface="Californian FB"/>
              </a:rPr>
              <a:t>DEUTERONOMY 32: 11 – 12</a:t>
            </a:r>
            <a:r>
              <a:rPr b="0" lang="en-US" sz="2800" spc="-1" strike="noStrike">
                <a:solidFill>
                  <a:srgbClr val="ffff00"/>
                </a:solidFill>
                <a:latin typeface="Californian F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Soaring Be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cc"/>
                </a:solidFill>
                <a:latin typeface="Californian FB"/>
              </a:rPr>
              <a:t>How precious is your lovingkindness, O Go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99cc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99cc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99cc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99cc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99cc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Therefo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The children of men put their trust 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                                      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           under the shad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of Your w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They are abundantly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 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satisfied with the full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of Your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And You give them drink from the river of Your pl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For with You is the fountain of lif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In Your light we see light.</a:t>
            </a: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ff"/>
                </a:solidFill>
                <a:latin typeface="Californian FB"/>
              </a:rPr>
              <a:t>                                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ff66ff"/>
                </a:solidFill>
                <a:latin typeface="Californian FB"/>
              </a:rPr>
              <a:t>PSALM  36: 7 - 9</a:t>
            </a:r>
            <a:r>
              <a:rPr b="0" lang="en-US" sz="1000" spc="-1" strike="noStrike">
                <a:solidFill>
                  <a:srgbClr val="ff66ff"/>
                </a:solidFill>
                <a:latin typeface="Californian FB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Soaring Clo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Californian FB"/>
              </a:rPr>
              <a:t>He who dwells in the secret place of the Most High 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Californian FB"/>
              </a:rPr>
              <a:t>Shall abide under the shadow of The Almigh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09880"/>
            <a:ext cx="731520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alifornian FB"/>
              </a:rPr>
              <a:t>I will say of the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alifornian FB"/>
              </a:rPr>
              <a:t>“ </a:t>
            </a:r>
            <a:r>
              <a:rPr b="1" lang="en-US" sz="3600" spc="-1" strike="noStrike">
                <a:solidFill>
                  <a:srgbClr val="ffffcc"/>
                </a:solidFill>
                <a:latin typeface="Californian FB"/>
              </a:rPr>
              <a:t>He is my refuge and my fortres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alifornian FB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alifornian FB"/>
              </a:rPr>
              <a:t>My God, in Him I will trust.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Soar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e4649"/>
                </a:solidFill>
                <a:latin typeface="Californian FB"/>
              </a:rPr>
              <a:t>Surel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He shall deliver you </a:t>
            </a:r>
            <a:r>
              <a:rPr b="1" i="1" lang="en-US" sz="3000" spc="-1" strike="noStrike">
                <a:solidFill>
                  <a:srgbClr val="3c8c93"/>
                </a:solidFill>
                <a:latin typeface="Californian FB"/>
              </a:rPr>
              <a:t> </a:t>
            </a: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from the snare of the  </a:t>
            </a:r>
            <a:r>
              <a:rPr b="1" i="1" lang="en-US" sz="3000" spc="-1" strike="noStrike">
                <a:solidFill>
                  <a:srgbClr val="3c8c93"/>
                </a:solidFill>
                <a:latin typeface="Californian FB"/>
              </a:rPr>
              <a:t> </a:t>
            </a: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fow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   </a:t>
            </a: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And from the perilous  pestil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He shall cover you with His feathers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   </a:t>
            </a: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And under His wings </a:t>
            </a:r>
            <a:r>
              <a:rPr b="1" lang="en-US" sz="3000" spc="-1" strike="noStrike">
                <a:solidFill>
                  <a:srgbClr val="1e4649"/>
                </a:solidFill>
                <a:latin typeface="Californian FB"/>
              </a:rPr>
              <a:t>you</a:t>
            </a: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  </a:t>
            </a:r>
            <a:r>
              <a:rPr b="1" lang="en-US" sz="3000" spc="-1" strike="noStrike">
                <a:solidFill>
                  <a:srgbClr val="1e4649"/>
                </a:solidFill>
                <a:latin typeface="Californian FB"/>
              </a:rPr>
              <a:t>sh</a:t>
            </a: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all take refug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His truth shall be your  shield and buckl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You shall not be afraid of the terror by night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Nor of the arrow that flies by day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Nor of the pestilence that walks in darkness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Nor of the destruction that lays waste at noonday.</a:t>
            </a:r>
            <a:r>
              <a:rPr b="0" lang="en-US" sz="3000" spc="-1" strike="noStrike">
                <a:solidFill>
                  <a:srgbClr val="3c8c93"/>
                </a:solidFill>
                <a:latin typeface="Californian F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Soaring High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Californian FB"/>
              </a:rPr>
              <a:t>Because you have made the LORD, </a:t>
            </a:r>
            <a:br>
              <a:rPr sz="2800"/>
            </a:br>
            <a:r>
              <a:rPr b="1" lang="en-US" sz="2800" spc="-1" strike="noStrike">
                <a:solidFill>
                  <a:srgbClr val="6666ff"/>
                </a:solidFill>
                <a:latin typeface="Californian FB"/>
              </a:rPr>
              <a:t>who is my refug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2895480"/>
            <a:ext cx="8381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Californian FB"/>
              </a:rPr>
              <a:t>Even the Most Hig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Californian FB"/>
              </a:rPr>
              <a:t>your habita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Californian FB"/>
              </a:rPr>
              <a:t>No evil shall befall you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Californian FB"/>
              </a:rPr>
              <a:t>Nor shall any plag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Californian FB"/>
              </a:rPr>
              <a:t>come near your dwelling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Covering &amp; Protect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Californian FB"/>
              </a:rPr>
              <a:t>For He shall give His angels charge over you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alifornian FB"/>
              </a:rPr>
              <a:t>To keep you in all your wa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alifornian FB"/>
              </a:rPr>
              <a:t>They shall bear you up in their ha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alifornian FB"/>
              </a:rPr>
              <a:t>Lest you dash your feet against a st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alifornian FB"/>
              </a:rPr>
              <a:t>You shall tread up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alifornian FB"/>
              </a:rPr>
              <a:t>          </a:t>
            </a:r>
            <a:r>
              <a:rPr b="1" lang="en-US" sz="3600" spc="-1" strike="noStrike">
                <a:solidFill>
                  <a:srgbClr val="00ff00"/>
                </a:solidFill>
                <a:latin typeface="Californian FB"/>
              </a:rPr>
              <a:t>the lion and the cobra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alifornian FB"/>
              </a:rPr>
              <a:t>The young lion and the serpent you shall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alifornian FB"/>
              </a:rPr>
              <a:t>          </a:t>
            </a:r>
            <a:r>
              <a:rPr b="1" lang="en-US" sz="3600" spc="-1" strike="noStrike">
                <a:solidFill>
                  <a:srgbClr val="00ff00"/>
                </a:solidFill>
                <a:latin typeface="Californian FB"/>
              </a:rPr>
              <a:t>trample under fo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Up Close and Uncomfortab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Beca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he has set his </a:t>
            </a:r>
            <a:r>
              <a:rPr b="1" lang="en-US" sz="3600" spc="-1" strike="noStrike">
                <a:solidFill>
                  <a:srgbClr val="ffff00"/>
                </a:solidFill>
                <a:latin typeface="Californian FB"/>
              </a:rPr>
              <a:t>love</a:t>
            </a: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 upon Me, therefore</a:t>
            </a: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             </a:t>
            </a:r>
            <a:r>
              <a:rPr b="1" i="1" lang="en-US" sz="3000" spc="-1" strike="noStrike">
                <a:solidFill>
                  <a:srgbClr val="ffffff"/>
                </a:solidFill>
                <a:latin typeface="Californian FB"/>
              </a:rPr>
              <a:t>I will</a:t>
            </a: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  deliver hi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             </a:t>
            </a:r>
            <a:r>
              <a:rPr b="1" i="1" lang="en-US" sz="3000" spc="-1" strike="noStrike">
                <a:solidFill>
                  <a:srgbClr val="ffffff"/>
                </a:solidFill>
                <a:latin typeface="Californian FB"/>
              </a:rPr>
              <a:t>I will</a:t>
            </a: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  set him on high, becau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he has known My name. He shall call upon Me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and  </a:t>
            </a:r>
            <a:r>
              <a:rPr b="1" i="1" lang="en-US" sz="3000" spc="-1" strike="noStrike">
                <a:solidFill>
                  <a:srgbClr val="ffffff"/>
                </a:solidFill>
                <a:latin typeface="Californian FB"/>
              </a:rPr>
              <a:t>I will</a:t>
            </a: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  answer hi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             </a:t>
            </a:r>
            <a:r>
              <a:rPr b="1" i="1" lang="en-US" sz="3000" spc="-1" strike="noStrike">
                <a:solidFill>
                  <a:srgbClr val="ffffff"/>
                </a:solidFill>
                <a:latin typeface="Californian FB"/>
              </a:rPr>
              <a:t>I will</a:t>
            </a:r>
            <a:r>
              <a:rPr b="1" lang="en-US" sz="3000" spc="-1" strike="noStrike">
                <a:solidFill>
                  <a:srgbClr val="ffffff"/>
                </a:solidFill>
                <a:latin typeface="Californian FB"/>
              </a:rPr>
              <a:t>  be with him in troubl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fornian FB"/>
              </a:rPr>
              <a:t>             </a:t>
            </a:r>
            <a:r>
              <a:rPr b="1" i="1" lang="en-US" sz="3000" spc="-1" strike="noStrike">
                <a:solidFill>
                  <a:srgbClr val="ffffff"/>
                </a:solidFill>
                <a:latin typeface="Californian FB"/>
              </a:rPr>
              <a:t>I will</a:t>
            </a:r>
            <a:r>
              <a:rPr b="1" lang="en-US" sz="3000" spc="-1" strike="noStrike">
                <a:solidFill>
                  <a:srgbClr val="ffffff"/>
                </a:solidFill>
                <a:latin typeface="Californian FB"/>
              </a:rPr>
              <a:t>  deliver and honour hi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fornian FB"/>
              </a:rPr>
              <a:t>    </a:t>
            </a:r>
            <a:r>
              <a:rPr b="1" lang="en-US" sz="3000" spc="-1" strike="noStrike">
                <a:solidFill>
                  <a:srgbClr val="ffffff"/>
                </a:solidFill>
                <a:latin typeface="Californian FB"/>
              </a:rPr>
              <a:t>With long lif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fornian FB"/>
              </a:rPr>
              <a:t>             </a:t>
            </a:r>
            <a:r>
              <a:rPr b="1" i="1" lang="en-US" sz="3000" spc="-1" strike="noStrike">
                <a:solidFill>
                  <a:srgbClr val="ffffff"/>
                </a:solidFill>
                <a:latin typeface="Californian FB"/>
              </a:rPr>
              <a:t>I will</a:t>
            </a:r>
            <a:r>
              <a:rPr b="1" lang="en-US" sz="3000" spc="-1" strike="noStrike">
                <a:solidFill>
                  <a:srgbClr val="ffffff"/>
                </a:solidFill>
                <a:latin typeface="Californian FB"/>
              </a:rPr>
              <a:t>  satisfy him,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fornian FB"/>
              </a:rPr>
              <a:t>    </a:t>
            </a:r>
            <a:r>
              <a:rPr b="1" lang="en-US" sz="3000" spc="-1" strike="noStrike">
                <a:solidFill>
                  <a:srgbClr val="ffffff"/>
                </a:solidFill>
                <a:latin typeface="Californian FB"/>
              </a:rPr>
              <a:t>And show him my salvation.</a:t>
            </a:r>
            <a:r>
              <a:rPr b="1" lang="en-US" sz="2800" spc="-1" strike="noStrike">
                <a:solidFill>
                  <a:srgbClr val="ffffff"/>
                </a:solidFill>
                <a:latin typeface="Californian FB"/>
              </a:rPr>
              <a:t>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fornian FB"/>
              </a:rPr>
              <a:t>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fornian FB"/>
              </a:rPr>
              <a:t>PSALM 91</a:t>
            </a:r>
            <a:r>
              <a:rPr b="1" lang="en-US" sz="2800" spc="-1" strike="noStrike">
                <a:solidFill>
                  <a:srgbClr val="000000"/>
                </a:solidFill>
                <a:latin typeface="Californian F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oaring Best"/>
          <p:cNvPicPr/>
          <p:nvPr/>
        </p:nvPicPr>
        <p:blipFill>
          <a:blip r:embed="rId1"/>
          <a:stretch/>
        </p:blipFill>
        <p:spPr>
          <a:xfrm>
            <a:off x="-685800" y="0"/>
            <a:ext cx="10058400" cy="7162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1600200" y="-360"/>
            <a:ext cx="12344400" cy="74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fornian FB"/>
              </a:rPr>
              <a:t>I  bore you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fornian FB"/>
              </a:rPr>
              <a:t> 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fornian FB"/>
              </a:rPr>
              <a:t>eagles’ w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fornian FB"/>
              </a:rPr>
              <a:t>     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fornian FB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fornian FB"/>
              </a:rPr>
              <a:t>       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fornian FB"/>
              </a:rPr>
              <a:t>brough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fornian FB"/>
              </a:rPr>
              <a:t>                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fornian FB"/>
              </a:rPr>
              <a:t>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fornian FB"/>
              </a:rPr>
              <a:t>                       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fornian FB"/>
              </a:rPr>
              <a:t>to   My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5943600" y="5703840"/>
            <a:ext cx="27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odus 19 : 4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Soaring Bes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-38520" y="-148320"/>
            <a:ext cx="65732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549000" bIns="457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Edwardian Script ITC"/>
                <a:ea typeface="Times New Roman"/>
              </a:rPr>
              <a:t>Under The  Wings  of  God        </a:t>
            </a:r>
            <a:r>
              <a:rPr b="0" lang="en-US" sz="800" spc="-1" strike="noStrike">
                <a:solidFill>
                  <a:srgbClr val="800000"/>
                </a:solidFill>
                <a:latin typeface="Arial"/>
                <a:ea typeface="Times New Roman"/>
              </a:rPr>
              <a:t> [personalised]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As an eagle stirs up its nes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Hovers over its young 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Spreading out its wing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Taking them  up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Carrying them</a:t>
            </a:r>
            <a:r>
              <a:rPr b="0" i="1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on its wing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cc"/>
                </a:solidFill>
                <a:latin typeface="Californian FB"/>
                <a:ea typeface="Times New Roman"/>
              </a:rPr>
              <a:t>So the Lord alone leads me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cc"/>
                </a:solidFill>
                <a:latin typeface="Californian FB"/>
                <a:ea typeface="Times New Roman"/>
              </a:rPr>
              <a:t>And there is </a:t>
            </a:r>
            <a:r>
              <a:rPr b="0" i="1" lang="en-US" sz="800" spc="-1" strike="noStrike">
                <a:solidFill>
                  <a:srgbClr val="cc00cc"/>
                </a:solidFill>
                <a:latin typeface="Californian FB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c00cc"/>
                </a:solidFill>
                <a:latin typeface="Californian FB"/>
                <a:ea typeface="Times New Roman"/>
              </a:rPr>
              <a:t>no foreign god with me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DEUTERONOMY 32: 11 – 1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3300"/>
                </a:solidFill>
                <a:latin typeface="Californian FB"/>
                <a:ea typeface="Times New Roman"/>
              </a:rPr>
              <a:t>How precious is your lovingkindness, O Go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Therefor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cc"/>
                </a:solidFill>
                <a:latin typeface="Californian FB"/>
                <a:ea typeface="Times New Roman"/>
              </a:rPr>
              <a:t>I  put my  trust under the shadow of Your wing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cc"/>
                </a:solidFill>
                <a:latin typeface="Californian FB"/>
                <a:ea typeface="Times New Roman"/>
              </a:rPr>
              <a:t>I am  abundantly satisfied with the fullness of Your hous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And You give me  drink from the river of Your pleasu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For  with  You is the fountain of lif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In Your light  I  see light.                            PSALM  36: 7 - 9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899280" y="2547000"/>
            <a:ext cx="35211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3300"/>
                </a:solidFill>
                <a:latin typeface="Californian FB"/>
                <a:ea typeface="Times New Roman"/>
              </a:rPr>
              <a:t>I  dwell  in the secret place of the Most Hig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And  abide under the shadow of The Almigh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I will say of the LORD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cc"/>
                </a:solidFill>
                <a:latin typeface="Californian FB"/>
                <a:ea typeface="Times New Roman"/>
              </a:rPr>
              <a:t>“ </a:t>
            </a:r>
            <a:r>
              <a:rPr b="0" lang="en-US" sz="800" spc="-1" strike="noStrike">
                <a:solidFill>
                  <a:srgbClr val="cc00cc"/>
                </a:solidFill>
                <a:latin typeface="Californian FB"/>
                <a:ea typeface="Times New Roman"/>
              </a:rPr>
              <a:t>You are my refuge and my fortress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cc"/>
                </a:solidFill>
                <a:latin typeface="Californian FB"/>
                <a:ea typeface="Times New Roman"/>
              </a:rPr>
              <a:t>   </a:t>
            </a:r>
            <a:r>
              <a:rPr b="0" lang="en-US" sz="800" spc="-1" strike="noStrike">
                <a:solidFill>
                  <a:srgbClr val="cc00cc"/>
                </a:solidFill>
                <a:latin typeface="Californian FB"/>
                <a:ea typeface="Times New Roman"/>
              </a:rPr>
              <a:t>My God,  in You  I will trust.”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3300"/>
                </a:solidFill>
                <a:latin typeface="Californian FB"/>
                <a:ea typeface="Times New Roman"/>
              </a:rPr>
              <a:t>Surely  You  shall deliver  me  from the snare of  the  fow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And from the perilous  pestilenc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You  cover me  </a:t>
            </a:r>
            <a:r>
              <a:rPr b="0" i="1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with Your  feather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And under Your  w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I   take refug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Your  truth  is  my   shield and buckl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cc"/>
                </a:solidFill>
                <a:latin typeface="Californian FB"/>
                <a:ea typeface="Times New Roman"/>
              </a:rPr>
              <a:t>              </a:t>
            </a:r>
            <a:r>
              <a:rPr b="0" lang="en-US" sz="800" spc="-1" strike="noStrike">
                <a:solidFill>
                  <a:srgbClr val="cc00cc"/>
                </a:solidFill>
                <a:latin typeface="Californian FB"/>
                <a:ea typeface="Times New Roman"/>
              </a:rPr>
              <a:t>I shall  not be afraid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of the terror by night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Nor of the arrow that flies by day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Nor of the pestilence that walks in darkness.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Nor of the destruction that lays waste at noonda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3300"/>
                </a:solidFill>
                <a:latin typeface="Californian FB"/>
                <a:ea typeface="Times New Roman"/>
              </a:rPr>
              <a:t>Because I  have made the LORD,   my refug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3300"/>
                </a:solidFill>
                <a:latin typeface="Californian FB"/>
                <a:ea typeface="Times New Roman"/>
              </a:rPr>
              <a:t>    </a:t>
            </a:r>
            <a:r>
              <a:rPr b="1" i="1" lang="en-US" sz="800" spc="-1" strike="noStrike">
                <a:solidFill>
                  <a:srgbClr val="ff3300"/>
                </a:solidFill>
                <a:latin typeface="Californian FB"/>
                <a:ea typeface="Times New Roman"/>
              </a:rPr>
              <a:t>Even the Most High, my  habita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No evil shall befall m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Nor shall any plague come near my  dwelling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3300"/>
                </a:solidFill>
                <a:latin typeface="Californian FB"/>
                <a:ea typeface="Times New Roman"/>
              </a:rPr>
              <a:t>For You  give  Your  angels charge over m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To keep me in all  my  way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They shall bear me up in their ha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Lest I  dash my  feet  against a  ston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I  shall tread upon the lion and the cobr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The young lion and the serpent I  shall trample under foo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0000"/>
                </a:solidFill>
                <a:latin typeface="Californian FB"/>
                <a:ea typeface="Times New Roman"/>
              </a:rPr>
              <a:t>  </a:t>
            </a:r>
            <a:r>
              <a:rPr b="1" i="1" lang="en-US" sz="800" spc="-1" strike="noStrike">
                <a:solidFill>
                  <a:srgbClr val="ff3300"/>
                </a:solidFill>
                <a:latin typeface="Californian FB"/>
                <a:ea typeface="Times New Roman"/>
              </a:rPr>
              <a:t>Because  You have set Your  love upon Me, theref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You will deliver m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You will set me on high, because you  know My n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You  shall call   me, 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You will answer  m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You will be with me in troubl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You will deliver and honour 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800000"/>
                </a:solidFill>
                <a:latin typeface="Californian FB"/>
                <a:ea typeface="Times New Roman"/>
              </a:rPr>
              <a:t> </a:t>
            </a:r>
            <a:r>
              <a:rPr b="1" i="1" lang="en-US" sz="800" spc="-1" strike="noStrike">
                <a:solidFill>
                  <a:srgbClr val="ff3300"/>
                </a:solidFill>
                <a:latin typeface="Californian FB"/>
                <a:ea typeface="Times New Roman"/>
              </a:rPr>
              <a:t>With long lif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You will satisfy me,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And show me my salvation.                          PSALM 9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495680" y="2666880"/>
            <a:ext cx="3772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</a:t>
            </a:r>
            <a:r>
              <a:rPr b="0" i="1" lang="en-US" sz="16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I  bore you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eagles’ wing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brough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to     My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en-US" sz="12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Exodus 19 : 4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4T08:47:22Z</dcterms:created>
  <dc:creator>Lawrence Wong</dc:creator>
  <dc:description/>
  <dc:language>en-US</dc:language>
  <cp:lastModifiedBy>Jeremy Walker</cp:lastModifiedBy>
  <dcterms:modified xsi:type="dcterms:W3CDTF">2010-01-17T23:18:43Z</dcterms:modified>
  <cp:revision>30</cp:revision>
  <dc:subject/>
  <dc:title>Under The Wings of God </dc:title>
</cp:coreProperties>
</file>