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7A0-3CB6-41D8-9941-20BA692F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569-20B9-459A-A894-91312A88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40C-E53E-41CD-AA2F-8216561A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B8C-A57C-4F2F-A2AD-12771201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FAC-CFED-4ABE-9532-C02BA4B6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548-8138-4FEA-9B3D-CFEEAAA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0DC-6A5B-4BED-8E37-5262B501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68E-8542-43F0-9956-B35ABF6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559-536B-426A-A334-DB564CA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D24-A92A-41F8-BA49-0266241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1BE-AEEF-425B-B1E0-0943138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A5D-AB35-4178-AF6F-918470E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5411-D944-40FB-A485-48FC37AB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On Bran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ff"/>
                </a:solidFill>
                <a:latin typeface="Edwardian Script ITC"/>
              </a:rPr>
              <a:t>Under The Wings of G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As an eagle stirs up its n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Hovers over its you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Spreading out its 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Taking them  u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Carrying them</a:t>
            </a:r>
            <a:r>
              <a:rPr b="1" i="1" lang="en-US" sz="3600" spc="-1" strike="noStrike">
                <a:solidFill>
                  <a:srgbClr val="66ffff"/>
                </a:solidFill>
                <a:latin typeface="Californian FB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on its 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So the Lord alone led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And there was </a:t>
            </a:r>
            <a:r>
              <a:rPr b="1" i="1" lang="en-US" sz="3600" spc="-1" strike="noStrike">
                <a:solidFill>
                  <a:srgbClr val="66ffff"/>
                </a:solidFill>
                <a:latin typeface="Californian FB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Californian FB"/>
              </a:rPr>
              <a:t>no foreign god with him</a:t>
            </a:r>
            <a:r>
              <a:rPr b="1" lang="en-US" sz="2800" spc="-1" strike="noStrike">
                <a:solidFill>
                  <a:srgbClr val="66ffff"/>
                </a:solidFill>
                <a:latin typeface="Californian FB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ff"/>
                </a:solidFill>
                <a:latin typeface="Californian FB"/>
              </a:rPr>
              <a:t>  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66ffff"/>
                </a:solidFill>
                <a:latin typeface="Californian FB"/>
              </a:rPr>
              <a:t>DEUTERONOMY 32: 11 – 12</a:t>
            </a:r>
            <a:r>
              <a:rPr b="0" lang="en-US" sz="2800" spc="-1" strike="noStrike">
                <a:solidFill>
                  <a:srgbClr val="ffff00"/>
                </a:solidFill>
                <a:latin typeface="Californian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Soaring B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cc"/>
                </a:solidFill>
                <a:latin typeface="Californian FB"/>
              </a:rPr>
              <a:t>How precious is your lovingkindness, O G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Theref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The children of men put their trust 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                                      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           under the shad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of Your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They are abundantly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satisfied with the full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of You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And You give them drink from the river of Your pl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For with You is the fountain of lif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alifornian FB"/>
              </a:rPr>
              <a:t>In Your light we see light.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ff"/>
                </a:solidFill>
                <a:latin typeface="Californian FB"/>
              </a:rPr>
              <a:t>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66ff"/>
                </a:solidFill>
                <a:latin typeface="Californian FB"/>
              </a:rPr>
              <a:t>PSALM  36: 7 - 9</a:t>
            </a:r>
            <a:r>
              <a:rPr b="0" lang="en-US" sz="1000" spc="-1" strike="noStrike">
                <a:solidFill>
                  <a:srgbClr val="ff66ff"/>
                </a:solidFill>
                <a:latin typeface="Californian F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oaring Cl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alifornian FB"/>
              </a:rPr>
              <a:t>He who dwells in the secret place of the Most High 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Californian FB"/>
              </a:rPr>
              <a:t>Shall abide under the shadow of The Almigh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09880"/>
            <a:ext cx="73152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I will say of th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“ </a:t>
            </a: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He is my refuge and my fortres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alifornian FB"/>
              </a:rPr>
              <a:t>My God, in Him I will trust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oa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e4649"/>
                </a:solidFill>
                <a:latin typeface="Californian FB"/>
              </a:rPr>
              <a:t>Sure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He shall deliver you </a:t>
            </a:r>
            <a:r>
              <a:rPr b="1" i="1" lang="en-US" sz="3000" spc="-1" strike="noStrike">
                <a:solidFill>
                  <a:srgbClr val="3c8c93"/>
                </a:solidFill>
                <a:latin typeface="Californian FB"/>
              </a:rPr>
              <a:t>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from the snare of the  </a:t>
            </a:r>
            <a:r>
              <a:rPr b="1" i="1" lang="en-US" sz="3000" spc="-1" strike="noStrike">
                <a:solidFill>
                  <a:srgbClr val="3c8c93"/>
                </a:solidFill>
                <a:latin typeface="Californian FB"/>
              </a:rPr>
              <a:t>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fow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  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And from the perilous  pestil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He shall cover you with His feather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   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And under His wings </a:t>
            </a:r>
            <a:r>
              <a:rPr b="1" lang="en-US" sz="3000" spc="-1" strike="noStrike">
                <a:solidFill>
                  <a:srgbClr val="1e4649"/>
                </a:solidFill>
                <a:latin typeface="Californian FB"/>
              </a:rPr>
              <a:t>you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  </a:t>
            </a:r>
            <a:r>
              <a:rPr b="1" lang="en-US" sz="3000" spc="-1" strike="noStrike">
                <a:solidFill>
                  <a:srgbClr val="1e4649"/>
                </a:solidFill>
                <a:latin typeface="Californian FB"/>
              </a:rPr>
              <a:t>sh</a:t>
            </a: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all take refug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His truth shall be your  shield and buck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You shall not be afraid of the terror by night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Nor of the arrow that flies by d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Nor of the pestilence that walks in darkne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8c93"/>
                </a:solidFill>
                <a:latin typeface="Californian FB"/>
              </a:rPr>
              <a:t>Nor of the destruction that lays waste at noonday.</a:t>
            </a:r>
            <a:r>
              <a:rPr b="0" lang="en-US" sz="3000" spc="-1" strike="noStrike">
                <a:solidFill>
                  <a:srgbClr val="3c8c93"/>
                </a:solidFill>
                <a:latin typeface="Californian F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oaring Hig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alifornian FB"/>
              </a:rPr>
              <a:t>Because you have made the LORD, </a:t>
            </a:r>
            <a:br>
              <a:rPr sz="2800"/>
            </a:br>
            <a:r>
              <a:rPr b="1" lang="en-US" sz="2800" spc="-1" strike="noStrike">
                <a:solidFill>
                  <a:srgbClr val="6666ff"/>
                </a:solidFill>
                <a:latin typeface="Californian FB"/>
              </a:rPr>
              <a:t>who is my refu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Even the Most Hig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your habit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No evil shall befall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Nor shall any plag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alifornian FB"/>
              </a:rPr>
              <a:t>come near your dwelling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overing &amp; Protec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Californian FB"/>
              </a:rPr>
              <a:t>For He shall give His angels charge over you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o keep you in all your w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hey shall bear you up in their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Lest you dash your feet against a st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You shall tread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          </a:t>
            </a: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he lion and the cobr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he young lion and the serpent you shal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          </a:t>
            </a:r>
            <a:r>
              <a:rPr b="1" lang="en-US" sz="3600" spc="-1" strike="noStrike">
                <a:solidFill>
                  <a:srgbClr val="00ff00"/>
                </a:solidFill>
                <a:latin typeface="Californian FB"/>
              </a:rPr>
              <a:t>trample under fo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Up Close and Uncomfor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he has set his </a:t>
            </a:r>
            <a:r>
              <a:rPr b="1" lang="en-US" sz="3600" spc="-1" strike="noStrike">
                <a:solidFill>
                  <a:srgbClr val="ffff00"/>
                </a:solidFill>
                <a:latin typeface="Californian FB"/>
              </a:rPr>
              <a:t>love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 upon Me, therefore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deliver hi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set him on high, beca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he has known My name. He shall call upon M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and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answer hi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be with him in troubl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deliver and honour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With long lif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         </a:t>
            </a:r>
            <a:r>
              <a:rPr b="1" i="1" lang="en-US" sz="3000" spc="-1" strike="noStrike">
                <a:solidFill>
                  <a:srgbClr val="ffffff"/>
                </a:solidFill>
                <a:latin typeface="Californian FB"/>
              </a:rPr>
              <a:t>I will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satisfy him,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    </a:t>
            </a:r>
            <a:r>
              <a:rPr b="1" lang="en-US" sz="3000" spc="-1" strike="noStrike">
                <a:solidFill>
                  <a:srgbClr val="ffffff"/>
                </a:solidFill>
                <a:latin typeface="Californian FB"/>
              </a:rPr>
              <a:t>And show him my salvation.</a:t>
            </a:r>
            <a:r>
              <a:rPr b="1" lang="en-US" sz="28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fornian FB"/>
              </a:rPr>
              <a:t>PSALM 91</a:t>
            </a: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oaring Best"/>
          <p:cNvPicPr/>
          <p:nvPr/>
        </p:nvPicPr>
        <p:blipFill>
          <a:blip r:embed="rId1"/>
          <a:stretch/>
        </p:blipFill>
        <p:spPr>
          <a:xfrm>
            <a:off x="-685800" y="0"/>
            <a:ext cx="1005840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600200" y="-360"/>
            <a:ext cx="1234440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I  bore you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eagles’ w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brou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                      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fornian FB"/>
              </a:rPr>
              <a:t>to   My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943600" y="57038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odus 19 : 4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oaring Bes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-38520" y="-148320"/>
            <a:ext cx="6573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54900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Edwardian Script ITC"/>
                <a:ea typeface="Times New Roman"/>
              </a:rPr>
              <a:t>Under The  Wings  of  God        </a:t>
            </a:r>
            <a:r>
              <a:rPr b="0" lang="en-US" sz="800" spc="-1" strike="noStrike">
                <a:solidFill>
                  <a:srgbClr val="800000"/>
                </a:solidFill>
                <a:latin typeface="Arial"/>
                <a:ea typeface="Times New Roman"/>
              </a:rPr>
              <a:t> [personalised]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s an eagle stirs up its ne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Hovers over its young 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Spreading out its wing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aking them  up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Carrying them</a:t>
            </a:r>
            <a:r>
              <a:rPr b="0" i="1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on its wing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So the Lord alone leads me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And there is </a:t>
            </a:r>
            <a:r>
              <a:rPr b="0" i="1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no foreign god with me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DEUTERONOMY 32: 11 – 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How precious is your lovingkindness, O G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herefor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I  put my  trust under the shadow of Your win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I am  abundantly satisfied with the fullness of Your hou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You give me  drink from the river of Your pleasu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For  with  You is the fountain of lif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n Your light  I  see light.                            PSALM  36: 7 - 9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99280" y="2547000"/>
            <a:ext cx="352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I  dwell  in the secret place of the Most Hig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 abide under the shadow of The Almigh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will say of the LORD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“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You are my refuge and my fortress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  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My God,  in You  I will trust.”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Surely  You  shall deliver  me  from the snare of  the  fow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from the perilous  pestilen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 cover me  </a:t>
            </a:r>
            <a:r>
              <a:rPr b="0" i="1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with Your  feather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under Your  w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  take refug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r  truth  is  my   shield and buckl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              </a:t>
            </a:r>
            <a:r>
              <a:rPr b="0" lang="en-US" sz="800" spc="-1" strike="noStrike">
                <a:solidFill>
                  <a:srgbClr val="cc00cc"/>
                </a:solidFill>
                <a:latin typeface="Californian FB"/>
                <a:ea typeface="Times New Roman"/>
              </a:rPr>
              <a:t>I shall  not be afraid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of the terror by nigh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of the arrow that flies by da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of the pestilence that walks in darkness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of the destruction that lays waste at noond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Because I  have made the LORD,   my refug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    </a:t>
            </a: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Even the Most High, my  habit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 evil shall befall 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Nor shall any plague come near my  dwelling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For You  give  Your  angels charge over 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o keep me in all  my  way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hey shall bear me up in their h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Lest I  dash my  feet  against a  st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 shall tread upon the lion and the cob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he young lion and the serpent I  shall trample under foo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0000"/>
                </a:solidFill>
                <a:latin typeface="Californian FB"/>
                <a:ea typeface="Times New Roman"/>
              </a:rPr>
              <a:t>  </a:t>
            </a: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Because  You have set Your  love upon Me, theref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deliver m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set me on high, because you  know My n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 shall call   me, 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answer  m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be with me in troubl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deliver and honour 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800000"/>
                </a:solidFill>
                <a:latin typeface="Californian FB"/>
                <a:ea typeface="Times New Roman"/>
              </a:rPr>
              <a:t> </a:t>
            </a:r>
            <a:r>
              <a:rPr b="1" i="1" lang="en-US" sz="800" spc="-1" strike="noStrike">
                <a:solidFill>
                  <a:srgbClr val="ff3300"/>
                </a:solidFill>
                <a:latin typeface="Californian FB"/>
                <a:ea typeface="Times New Roman"/>
              </a:rPr>
              <a:t>With long lif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will satisfy me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show me my salvation.                          PSALM 9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495680" y="2666880"/>
            <a:ext cx="377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I  bore you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eagles’ w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brough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to     My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Californian FB"/>
                <a:ea typeface="Times New Roman"/>
              </a:rPr>
              <a:t>Exodus 19 : 4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8:47:22Z</dcterms:created>
  <dc:creator>Lawrence Wong</dc:creator>
  <dc:description/>
  <dc:language>en-US</dc:language>
  <cp:lastModifiedBy>Jeremy Walker</cp:lastModifiedBy>
  <dcterms:modified xsi:type="dcterms:W3CDTF">2010-01-17T23:18:43Z</dcterms:modified>
  <cp:revision>30</cp:revision>
  <dc:subject/>
  <dc:title>Under The Wings of God </dc:title>
</cp:coreProperties>
</file>